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360" y="-5823000"/>
            <a:ext cx="360" cy="130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EDA5-40B9-4773-BF8E-CA2AC8565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0800" y="411516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E5E8-1E86-4730-A7A4-5760E4C1F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3C99-A2ED-473B-A3F3-B2A3DD06D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148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252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080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148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252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38F4-957F-47F0-9B7A-A63DB4418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75F0-DB40-442A-ABAF-7E5EB72067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1BA3-8350-4879-A693-02A2F09CF9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2643-8A15-4484-80F0-2968B79C84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EFED-8A01-4523-9BA6-8994337AF1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AA1E-635A-4406-B214-562FD3D4F3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520" y="-49680"/>
            <a:ext cx="85791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8A43-0B97-4EC0-9B31-0E12E52BB2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A2DC-E0CE-4975-9CD4-16B08DBDF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8C16-0AAF-42FA-90F7-AEA08CFEC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772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80E3-861E-41BB-B1F3-6091BD2317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75E6-0DFC-48DF-853B-8E935FF01A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0800" y="411516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2F5C-DB3E-42B8-8089-20B0A86D20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772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2C91-4B9D-495F-8451-8501DA9C61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148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252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080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148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252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CEA6-312A-4933-8871-DB3BBB0AEA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DED3-1839-4E13-A6AF-B27163686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1575-FE16-48A5-89A3-D080E4CEF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B7AC-2406-4AA8-B987-34EB83588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2520" y="-49680"/>
            <a:ext cx="85791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7D71-5C34-44E3-AF48-FEAA0A6A2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865C-6617-43B7-AFD7-490D4812A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C010-9EE7-487D-8ADC-C62B11E49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57CA-9AF3-45AF-BFB6-FE6C2F88C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4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2000" y="6400440"/>
            <a:ext cx="19004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A6536-4166-4BE0-B8C0-50F34BF9F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9144000" cy="40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641600"/>
            <a:ext cx="9144000" cy="366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54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55920" y="640080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C8C771-C95C-47B8-9119-8D799BDBC73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7120" y="2571840"/>
            <a:ext cx="842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760" y="1712880"/>
            <a:ext cx="82296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2d2db9"/>
                </a:solidFill>
                <a:latin typeface="Arial"/>
              </a:rPr>
              <a:t>Resultado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2611440"/>
            <a:ext cx="822960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A interação dos professores que já desenvolviam atividades na STE com aqueles que ainda não tinham utilizado a sala neste ano letivo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A utilização de metodologias diferenciadas que contribuam no processo de aprendizagem, através do acesso a sites educativos e do portal do professor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57120" y="2082960"/>
            <a:ext cx="828684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2d2db9"/>
                </a:solidFill>
                <a:latin typeface="Arial"/>
                <a:ea typeface="Times New Roman"/>
              </a:rPr>
              <a:t>Referências Bibliográfic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PIAGET, Jean. </a:t>
            </a:r>
            <a:r>
              <a:rPr b="0" i="1" lang="pt-B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A psicologia da inteligência, </a:t>
            </a:r>
            <a:r>
              <a:rPr b="0" lang="pt-B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Lisboa, Fundo de Cultura. 19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http://portaldoprofessor.mec.gov.br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www.atividadeseducativas.com.b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www.somatematica.com.b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www.soportugues.com.b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0040" y="2286000"/>
            <a:ext cx="79297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Escola Estadual Luiz Soares And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Nova Andradina –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Agosto/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288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7120" y="1857240"/>
            <a:ext cx="8501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Professores responsáveis pelo proj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Ismael Silvério Jun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Marcio Redigo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Rosimeire da Silva Olivei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288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160" y="1857240"/>
            <a:ext cx="864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040" y="1928880"/>
            <a:ext cx="7786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2d2db9"/>
                </a:solidFill>
                <a:latin typeface="Arial"/>
              </a:rPr>
              <a:t>Turno de realização do projeto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2d2db9"/>
                </a:solidFill>
                <a:latin typeface="Arial"/>
              </a:rPr>
              <a:t>Matutino e Vespertino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2d2db9"/>
                </a:solidFill>
                <a:latin typeface="Arial"/>
              </a:rPr>
              <a:t>Público Alvo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2d2db9"/>
                </a:solidFill>
                <a:latin typeface="Arial"/>
              </a:rPr>
              <a:t>Professores do 1º ao 5º anos do EF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7120" y="17622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400" spc="-1" strike="noStrike">
                <a:solidFill>
                  <a:srgbClr val="2d2db9"/>
                </a:solidFill>
                <a:latin typeface="Arial"/>
              </a:rPr>
              <a:t>Objetivo Ge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4200" y="2500200"/>
            <a:ext cx="8072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2d2db9"/>
                </a:solidFill>
                <a:latin typeface="Arial"/>
              </a:rPr>
              <a:t>    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    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Contribuir de maneira efetiva para o processo de ensino e aprendizagem, através de atividades que busquem a construção do conhecimento de forma coletiva e cooperativa, utilizando de maneira adequada jogos educativos disponíveis na rede mundial de computador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26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1646280"/>
            <a:ext cx="485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400" spc="-1" strike="noStrike">
                <a:solidFill>
                  <a:srgbClr val="2d2db9"/>
                </a:solidFill>
                <a:latin typeface="Arial"/>
              </a:rPr>
              <a:t>Objetivos específic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2500200"/>
            <a:ext cx="822960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726"/>
              </a:spcBef>
              <a:buClr>
                <a:srgbClr val="2d2db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Familiarizar docentes com sites que oferecem jogos educativos disponíveis na rede mundial de computadores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26"/>
              </a:spcBef>
              <a:buClr>
                <a:srgbClr val="2d2db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Utilizar jogos educativos como recursos metodológicos que contribuam no ensino e aprendizagem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26"/>
              </a:spcBef>
              <a:buClr>
                <a:srgbClr val="2d2db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Gerenciar e organizar as atividades desenvolvidas em conjunto com o professor regent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14680" y="1646280"/>
            <a:ext cx="485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2960" y="3286080"/>
            <a:ext cx="758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Atividades Educa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Portal do Prof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Só Matem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Só Portuguê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1680" y="2000160"/>
            <a:ext cx="77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2d2db9"/>
                </a:solidFill>
                <a:latin typeface="Arial"/>
              </a:rPr>
              <a:t>Tecnologias utilizad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4680" y="1646280"/>
            <a:ext cx="485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200016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800" spc="-1" strike="noStrike">
                <a:solidFill>
                  <a:srgbClr val="2d2db9"/>
                </a:solidFill>
                <a:latin typeface="Arial"/>
              </a:rPr>
              <a:t>Metodolog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7120" y="2643120"/>
            <a:ext cx="822960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Segundo Piaget (1967), a criança assimila ou interpreta a realidade por meio de uma atividade lúdica. Dessa forma, sugerimos aos professores alguns sites com jogos educativos, nos quais eles selecionaram os mais relevantes a cada disciplina para planejarem aulas seguindo os padrões das  aulas disponibilizadas no Portal do Professo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760" y="1857240"/>
            <a:ext cx="78580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O curso teve duração de 10h/a, visando divulgar as atribuições dos professores regentes de acordo com a Resolução SED     n. 2.127 de 05/06/07 e de estimular os mesmos a desenvolverem projetos voltados aos seus componentes curriculares na ST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MAEL NOVO</dc:creator>
  <dc:description/>
  <dc:language>en-US</dc:language>
  <cp:lastModifiedBy>ISMAEL NOVO</cp:lastModifiedBy>
  <cp:revision>0</cp:revision>
  <dc:subject/>
  <dc:title>Slide 1</dc:title>
</cp:coreProperties>
</file>